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55FA76-FAF8-4D40-91FC-8D796ED3D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EFAAA2-9F02-4F0B-8A22-7649A58D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548BC6-A1C9-4438-9748-5914E4B00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41584C-A43D-4658-ABA5-FBF487A31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8D199-8727-4334-8A14-469AC6441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FC897-A33E-4A30-A504-B994BD5C3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0D5B1-BEB9-4317-B9C0-0B2DA3540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20D65-CEFB-4A16-B333-34EEEDBF0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FEE09-F8E4-40AD-9A42-F82CF424D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79D8B-FD51-49B6-81B0-F09D874A7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7793C-29B1-4B30-9ED7-E1F84776A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BFD1C6-72AB-465A-97EE-A428DB9A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CEA27-9F83-470F-8B06-A11866ABA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8BE66-F4E9-4515-B27D-3E08A176E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3D975-5754-4849-9740-F0A2AB101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90278-66EB-4EF3-A15B-1549E5B99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E6304-D883-4FEC-923E-FB4020F55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996BC3-897C-4CDB-9DEA-20EE99BD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11CDEC-D174-419D-BFBB-1E751FB1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727D90-71E3-4407-899D-94421AA51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F79D0F-2F04-47B7-932E-FB6A4EF27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42A842-6178-4073-8960-A3E9F097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E03814-A129-4E35-A369-28C119E7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ED88E8-A291-4E1A-A588-D0889A791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7029-81ED-45BB-B4E7-A753A021AB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D046-9477-476C-82AD-2CDFE0613A3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tax treatment of qualified allocated net margins based on patronage, even if retained</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ron must give consent</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imum 20% must be in cash</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tion 521 “exempt” coops can also deduct as taxable income nonpatronage income and capital stock dividends </a:t>
            </a:r>
            <a:endParaRPr b="0" lang="en-US" sz="3200" spc="-1" strike="noStrike">
              <a:solidFill>
                <a:srgbClr val="ffffff"/>
              </a:solidFill>
              <a:latin typeface="Garamond"/>
            </a:endParaRPr>
          </a:p>
        </p:txBody>
      </p:sp>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Performance Evaluation</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llowing allocated margins to be retained </a:t>
            </a:r>
            <a:r>
              <a:rPr b="0" lang="en-US" sz="3200" spc="-1" strike="noStrike" u="sng">
                <a:solidFill>
                  <a:srgbClr val="ffffff"/>
                </a:solidFill>
                <a:uFillTx/>
                <a:latin typeface="Garamond"/>
              </a:rPr>
              <a:t>and</a:t>
            </a:r>
            <a:r>
              <a:rPr b="0" lang="en-US" sz="3200" spc="-1" strike="noStrike">
                <a:solidFill>
                  <a:srgbClr val="ffffff"/>
                </a:solidFill>
                <a:latin typeface="Garamond"/>
              </a:rPr>
              <a:t> if the coop return is higher than the patron’s opportunity cost. If not, neutral or negative efficiency</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neutralizing market power and if refund is distributed in cash. If not, can be neutral or negativ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dynamic efficiency and nonmarket benefits/considerations impacts</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Option Eliminates 521 Exemption</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coop benefit of 521 relates to securities regulation, few coops utilize, and creates confusion over coop tax stat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llocative, and dynamic efficiency</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benefits/considerations by eliminating an obsolete law</a:t>
            </a:r>
            <a:endParaRPr b="0" lang="en-US" sz="3200" spc="-1" strike="noStrike">
              <a:solidFill>
                <a:srgbClr val="ffffff"/>
              </a:solidFill>
              <a:latin typeface="Garamond"/>
            </a:endParaRPr>
          </a:p>
        </p:txBody>
      </p:sp>
      <p:sp>
        <p:nvSpPr>
          <p:cNvPr id="1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Equity and Debt Financing Policy</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 reliance on member-based qualified retains leads to equity financing problems/considerations vs. C-corporations, which rely on stock sales and on stock value appreciat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s may issue unqualified allocations by paying higher than the 20% net margin minimum cash (say 40% cash) with the member paying tax on the higher allocation and the coop paying corporate tax</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Bank is an important coop debt capital source, but limited in lending to LLC and new generation coop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op Equity Financing Performance Relative to C Corporation</a:t>
            </a:r>
            <a:endParaRPr b="1" lang="en-US" sz="40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ive efficiency may be enhanced by coop equity and debt financing option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cative efficiency may be enhanced by lower capital costs if coop can maintain competivenes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 efficiency may be enhanced by coop financing flexibil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market benefits/considerations would be neutral</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ase CoBank Debt Financing Authority Policy Option Performance Evaluation    </a:t>
            </a:r>
            <a:endParaRPr b="1" lang="en-US" sz="36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CoBank lending authority to LLC cooperatives and new generation c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allocative, and dynamic  efficiency by broadening the range of coop financing opportunit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opportunities/benefits in rural areas  </a:t>
            </a:r>
            <a:endParaRPr b="0" lang="en-US" sz="3200" spc="-1" strike="noStrike">
              <a:solidFill>
                <a:srgbClr val="ffffff"/>
              </a:solidFill>
              <a:latin typeface="Garamond"/>
            </a:endParaRPr>
          </a:p>
        </p:txBody>
      </p:sp>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Policy Under Marketing Orders and Agreements</a:t>
            </a:r>
            <a:endParaRPr b="1" lang="en-US" sz="4400" spc="-1" strike="noStrike">
              <a:solidFill>
                <a:srgbClr val="e5e5ff"/>
              </a:solidFill>
              <a:latin typeface="Garamond"/>
            </a:endParaRPr>
          </a:p>
        </p:txBody>
      </p:sp>
      <p:sp>
        <p:nvSpPr>
          <p:cNvPr id="146"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s play a very important role in supporting the development of marketing orders and agreements for specialty crops and milk</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lk coops have bloc-voting privileges, which allows then to vote orders in or out as a bloc on behalf of all members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ty crop marketing orders may be more dynamic in adjusting to changing consumer demands than federal milk marketing orders </a:t>
            </a:r>
            <a:endParaRPr b="0" lang="en-US" sz="3200" spc="-1" strike="noStrike">
              <a:solidFill>
                <a:srgbClr val="ffffff"/>
              </a:solidFill>
              <a:latin typeface="Garamond"/>
            </a:endParaRPr>
          </a:p>
        </p:txBody>
      </p:sp>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lk Marketing Order Coop Policy Performance Evaluation</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may be enhanced by fostering larger, more scale-efficient, coop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would be enhanced if the coop paid higher </a:t>
            </a:r>
            <a:r>
              <a:rPr b="0" lang="en-US" sz="2800" spc="-1" strike="noStrike" u="sng">
                <a:solidFill>
                  <a:srgbClr val="ffffff"/>
                </a:solidFill>
                <a:uFillTx/>
                <a:latin typeface="Garamond"/>
              </a:rPr>
              <a:t>and</a:t>
            </a:r>
            <a:r>
              <a:rPr b="0" lang="en-US" sz="2800" spc="-1" strike="noStrike">
                <a:solidFill>
                  <a:srgbClr val="ffffff"/>
                </a:solidFill>
                <a:latin typeface="Garamond"/>
              </a:rPr>
              <a:t> cost-justified milk prices to all patrons. If not cost justified, allocative efficiency could be reduced.</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reduced by obsolete institutional and pricing arrangements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reduced when individual farmers opinions are not represented in order decisions</a:t>
            </a:r>
            <a:endParaRPr b="0" lang="en-US" sz="2800" spc="-1" strike="noStrike">
              <a:solidFill>
                <a:srgbClr val="ffffff"/>
              </a:solidFill>
              <a:latin typeface="Garamond"/>
            </a:endParaRPr>
          </a:p>
        </p:txBody>
      </p:sp>
      <p:sp>
        <p:nvSpPr>
          <p:cNvPr id="1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liminate Milk Order Coop Bloc Voting Policy Option Evaluation </a:t>
            </a:r>
            <a:endParaRPr b="1" lang="en-US" sz="36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could be reduced by curbing milk coop growth</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may be increased as marketing order decisions more fully reflect the will of farmers. It may decrease, if coops better understand complex order provisions than the majority of farme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may be fostered, reducing resistance to institutional change</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reflecting milk producer opinions</a:t>
            </a:r>
            <a:endParaRPr b="0" lang="en-US" sz="2800" spc="-1" strike="noStrike">
              <a:solidFill>
                <a:srgbClr val="ffffff"/>
              </a:solidFill>
              <a:latin typeface="Garamond"/>
            </a:endParaRPr>
          </a:p>
        </p:txBody>
      </p:sp>
      <p:sp>
        <p:nvSpPr>
          <p:cNvPr id="15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ew Generation Coop Policies and State Laws</a:t>
            </a:r>
            <a:endParaRPr b="1" lang="en-US" sz="36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supported by state laws, allow increased cooperative ability to generate equity capital b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ing nonmember, nonfarmer, nonpatron investor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investors have right to profit margins and voting right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have at least 50% representation on Board</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vote as a bloc, nonpatron members vote individuall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may be treated as limited-liability company</a:t>
            </a:r>
            <a:endParaRPr b="0" lang="en-US" sz="2400" spc="-1" strike="noStrike">
              <a:solidFill>
                <a:srgbClr val="ffffff"/>
              </a:solidFill>
              <a:latin typeface="Garamond"/>
            </a:endParaRPr>
          </a:p>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characteristics may be essential for competing in evolving supply chains</a:t>
            </a: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naging the Supply Chain Through Cooperatives and Contract Integration</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bert A. Cropp</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Coop Policy Performance Evaluation</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Productive efficiency may be increased by access to outside capital</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Allocative efficiency may be increased by employing supply-managed strategies of C-corporations</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Dynamic efficiency may be enhanced by increased management flexibility</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Nonmarket benefits may be enhanced by increased rural economic activity </a:t>
            </a:r>
            <a:endParaRPr b="0" lang="en-US" sz="31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Federal and/or Uniform State Policy Options  </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e new generation cooperative legal concepts into existing coop policies by eliminating inconsistencies such as the Capper-Volstead exemp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option of uniform state cooperative model statute that encompasses traditional and new generation coops </a:t>
            </a:r>
            <a:endParaRPr b="0" lang="en-US" sz="3200" spc="-1" strike="noStrike">
              <a:solidFill>
                <a:srgbClr val="ffffff"/>
              </a:solidFill>
              <a:latin typeface="Garamond"/>
            </a:endParaRPr>
          </a:p>
        </p:txBody>
      </p:sp>
      <p:sp>
        <p:nvSpPr>
          <p:cNvPr id="16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New Generation Performance Evaluation Identical for both Options: Issue Feasibility </a:t>
            </a:r>
            <a:endParaRPr b="1" lang="en-US" sz="32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productive efficiency by providing uniformity in outside capital access</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allocative efficiency by facilitating the development of supply-chain managed systems </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dynamic efficiency by increasing management flexibility</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foster nonmarket investments in rural areas </a:t>
            </a:r>
            <a:endParaRPr b="0" lang="en-US" sz="3000" spc="-1" strike="noStrike">
              <a:solidFill>
                <a:srgbClr val="ffffff"/>
              </a:solidFill>
              <a:latin typeface="Garamond"/>
            </a:endParaRPr>
          </a:p>
        </p:txBody>
      </p:sp>
      <p:sp>
        <p:nvSpPr>
          <p:cNvPr id="16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Trade Practices Act (AFPA) Bargaining Policy</a:t>
            </a:r>
            <a:endParaRPr b="1" lang="en-US" sz="44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ed to improve market relationships in negotiating contracts with larger C corporate managed supply chain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hibits practices involving farmer coercion to sign contracts, refusing to deal, membership discrimination,  making false statements, conspiring with other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effective because of provision allowing integrators to select producer/suppliers for any reason other than membership in a bargaining association.</a:t>
            </a:r>
            <a:endParaRPr b="0" lang="en-US" sz="2800" spc="-1" strike="noStrike">
              <a:solidFill>
                <a:srgbClr val="ffffff"/>
              </a:solidFill>
              <a:latin typeface="Garamond"/>
            </a:endParaRPr>
          </a:p>
        </p:txBody>
      </p:sp>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Practices Act Bargaining Policy Performance</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providing integrators with legal grounds for refusing to bargain:</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have not been realized</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Option to AFPA</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 plain contract language with risk disclosu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3-day contract cancellation perio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producers first priority lien in event of integrator bankrupt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capricious/retribution contract termin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tournament contracts</a:t>
            </a:r>
            <a:endParaRPr b="0" lang="en-US" sz="3200" spc="-1" strike="noStrike">
              <a:solidFill>
                <a:srgbClr val="ffffff"/>
              </a:solidFill>
              <a:latin typeface="Garamond"/>
            </a:endParaRPr>
          </a:p>
        </p:txBody>
      </p:sp>
      <p:sp>
        <p:nvSpPr>
          <p:cNvPr id="17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Performance Evaluation</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would be neutral because scale of operations would not be affected</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could be increased by making contract terms transparent and more evenly distributed in terms of risk sharin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would increase by allowing producer adjustment to changing risk condit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would be realized by improving the market and risk position of contract producer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erative Support Policy</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Historically USDA provided coop marketing, education, information/statistics and technical assistance</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1994, coop service agency status was removed and merged as a coop program into USDA’s rural development program</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xcept for the statistics and minority coop assistance, coop support has been largely eliminated  </a:t>
            </a:r>
            <a:endParaRPr b="0" lang="en-US" sz="3000" spc="-1" strike="noStrike">
              <a:solidFill>
                <a:srgbClr val="ffffff"/>
              </a:solidFill>
              <a:latin typeface="Garamond"/>
            </a:endParaRPr>
          </a:p>
        </p:txBody>
      </p:sp>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Support Performance</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Productive efficiency reduced by decreases in cooperative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llocative efficiency reduced by decreased analyses of coop competitiveness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Dynamic efficiency reduced by lack of information about changes in coop market position</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nmarket benefits increased for minority coops</a:t>
            </a:r>
            <a:endParaRPr b="0" lang="en-US" sz="3000" spc="-1" strike="noStrike">
              <a:solidFill>
                <a:srgbClr val="ffffff"/>
              </a:solidFill>
              <a:latin typeface="Garamond"/>
            </a:endParaRPr>
          </a:p>
        </p:txBody>
      </p:sp>
      <p:sp>
        <p:nvSpPr>
          <p:cNvPr id="18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Agency Restoration Policy Performance </a:t>
            </a:r>
            <a:endParaRPr b="1" lang="en-US" sz="4400" spc="-1" strike="noStrike">
              <a:solidFill>
                <a:srgbClr val="e5e5ff"/>
              </a:solidFill>
              <a:latin typeface="Garamond"/>
            </a:endParaRPr>
          </a:p>
        </p:txBody>
      </p:sp>
      <p:sp>
        <p:nvSpPr>
          <p:cNvPr id="18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ncreased with increased emphasis on scale economies and needed supply chain adjust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ncreased with increased emphasis on cooperative competitivenes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ncreased with increased emphasis coop adjustment to supply chain develop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increased coop development in rural areas</a:t>
            </a:r>
            <a:endParaRPr b="0" lang="en-US" sz="2800" spc="-1" strike="noStrike">
              <a:solidFill>
                <a:srgbClr val="ffffff"/>
              </a:solidFill>
              <a:latin typeface="Garamond"/>
            </a:endParaRPr>
          </a:p>
        </p:txBody>
      </p:sp>
      <p:sp>
        <p:nvSpPr>
          <p:cNvPr id="18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ssessment of Need to Modernize Public Sector Coop Law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position of coop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alysis and efficiency performance evaluation of existing law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d efficiency performance evaluation of policy option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Limited to marketing and bargaining coops</a:t>
            </a:r>
            <a:r>
              <a:rPr b="0" lang="en-US" sz="3600" spc="-1" strike="noStrike">
                <a:solidFill>
                  <a:srgbClr val="ffffff"/>
                </a:solidFill>
                <a:latin typeface="Times New Roman"/>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Support for Cooperatives</a:t>
            </a:r>
            <a:endParaRPr b="1" lang="en-US" sz="4400" spc="-1" strike="noStrike">
              <a:solidFill>
                <a:srgbClr val="e5e5ff"/>
              </a:solidFill>
              <a:latin typeface="Garamond"/>
            </a:endParaRPr>
          </a:p>
        </p:txBody>
      </p:sp>
      <p:sp>
        <p:nvSpPr>
          <p:cNvPr id="1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statutory and university support, fostered by farmer interests, dates back to the early 1900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coop councils and institutes in major coop states provide information and education support to youth, coop members, and coop boards of directo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versity coop centers and professorial coop chairs provide leadership in cooperative teaching and research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t overall state and university support has declined substantially in the past 30 years</a:t>
            </a:r>
            <a:endParaRPr b="0" lang="en-US" sz="2800" spc="-1" strike="noStrike">
              <a:solidFill>
                <a:srgbClr val="ffffff"/>
              </a:solidFill>
              <a:latin typeface="Garamond"/>
            </a:endParaRPr>
          </a:p>
        </p:txBody>
      </p:sp>
      <p:sp>
        <p:nvSpPr>
          <p:cNvPr id="1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Performance Evaluation</a:t>
            </a:r>
            <a:endParaRPr b="1" lang="en-US" sz="4400" spc="-1" strike="noStrike">
              <a:solidFill>
                <a:srgbClr val="e5e5ff"/>
              </a:solidFill>
              <a:latin typeface="Garamond"/>
            </a:endParaRPr>
          </a:p>
        </p:txBody>
      </p:sp>
      <p:sp>
        <p:nvSpPr>
          <p:cNvPr id="19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duc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oca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ncreased state/private sector statutory education and research support fosters dynamic market change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onmarket benefits result from coop growth in rural area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 of these efficiency and nonmarket benefits would be accelerated by further expansion of state/private sector support </a:t>
            </a:r>
            <a:endParaRPr b="0" lang="en-US" sz="2600" spc="-1" strike="noStrike">
              <a:solidFill>
                <a:srgbClr val="ffffff"/>
              </a:solidFill>
              <a:latin typeface="Garamond"/>
            </a:endParaRPr>
          </a:p>
        </p:txBody>
      </p:sp>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cy performance impacts generally positive but could be further improve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tutory undergirding and support crucial to improving perform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ation of new generation coops is clear indication of coop dynamic efficien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 education essential for accomplishing nonmarket social justice benefits  </a:t>
            </a:r>
            <a:endParaRPr b="0" lang="en-US" sz="3200" spc="-1" strike="noStrike">
              <a:solidFill>
                <a:srgbClr val="ffffff"/>
              </a:solidFill>
              <a:latin typeface="Garamond"/>
            </a:endParaRPr>
          </a:p>
        </p:txBody>
      </p:sp>
      <p:sp>
        <p:nvSpPr>
          <p:cNvPr id="19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ng History of Federal and State Support for Coops</a:t>
            </a:r>
            <a:br>
              <a:rPr sz="4400"/>
            </a:b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organize without violating antitrust law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be taxed as a single ent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ccess to Farm Credit System financ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Marketing order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Bargaining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esearch and technical assist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Date Placeholder 2"/>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Business Scorecard by Era</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ot market declining but still important in grai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tical integration, milk coops major survivor</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ization wave to higher valued soy and dairy export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ly chain management, new generation coop and local food wa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se of biofuel wave of coop activity </a:t>
            </a:r>
            <a:endParaRPr b="0" lang="en-US" sz="32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 Coop Challenges</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ing farmer/members and coops into supply chai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tly adjusting to dynamic market conditio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nize systems and institutions to generate sufficient capita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pping into growing consumer preferences for fresh, quality, local food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Coop Policy Foundation</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ables farmers to organize and market products as marketing agents in comm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mited exemption jointly administered by USDA and Department of Justic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erformance Evaluation </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chieving scale economi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competition, cost-justified pricing, and margin allocat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dynamic efficiency by pace-making adjustment to market condition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efficiency through expanded local community economic activit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olicy Option Clarifying Antitrust Enforcement </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int USDA-DOJ enforcement responsibilit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nd dynamic efficiency, and on nonmarket outcom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increased assurance of competitive market conduct </a:t>
            </a:r>
            <a:endParaRPr b="0" lang="en-US" sz="32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cp:lastPrinted>2012-01-30T14:40:42Z</cp:lastPrinted>
  <dcterms:modified xsi:type="dcterms:W3CDTF">2012-06-04T22:17:08Z</dcterms:modified>
  <cp:revision>52</cp:revision>
  <dc:subject/>
  <dc:title>U.S. Policies Affecting Food and Agricultural Marketing</dc:title>
</cp:coreProperties>
</file>